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6A1-391F-49FD-BD1B-C79159AA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42F-B2ED-4826-934E-2ED63770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AF9-EB6A-4FB4-9999-9D1A9C46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FEE-EC9A-4A09-BA72-78CE2148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6CC-D370-48F6-B65A-40B4FC16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165-FFC8-459D-9D8C-84CEBD56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6B4-E26B-4AD8-BBC3-4F184E3D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AEA-AABD-4BE3-B6DB-8DB5EF87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1E6-6AD3-405A-BB1B-4BF2C2F2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4A9-3E52-43B8-8B92-C8BD9443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8A6-1633-426A-B5DA-C6EE7781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0FF-5802-4173-ACB2-033857C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3B14-CD7B-4F3E-84F9-E3B4CEF4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7732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Cómo es tu profe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184464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your profesors are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ath-teacher"/>
          <p:cNvPicPr/>
          <p:nvPr/>
        </p:nvPicPr>
        <p:blipFill>
          <a:blip r:embed="rId1"/>
          <a:stretch/>
        </p:blipFill>
        <p:spPr>
          <a:xfrm>
            <a:off x="5791320" y="228600"/>
            <a:ext cx="26668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cción 3 ¿Quié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ién es la profesora de matemáticas de Lu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ién es el profesor de matemáticas de Chav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ién es tú profesor de matemát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¿Quién es tu profesor d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temátic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? ¿Como 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0511-0708-2917-4832_Female_Math_Teacher_clipart_image"/>
          <p:cNvPicPr/>
          <p:nvPr/>
        </p:nvPicPr>
        <p:blipFill>
          <a:blip r:embed="rId3"/>
          <a:stretch/>
        </p:blipFill>
        <p:spPr>
          <a:xfrm>
            <a:off x="2819520" y="2895480"/>
            <a:ext cx="2624040" cy="31244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9"/>
          <p:cNvSpPr/>
          <p:nvPr/>
        </p:nvSpPr>
        <p:spPr>
          <a:xfrm>
            <a:off x="3987720" y="0"/>
            <a:ext cx="5156280" cy="3218040"/>
          </a:xfrm>
          <a:prstGeom prst="wedgeEllipseCallout">
            <a:avLst>
              <a:gd name="adj1" fmla="val 481"/>
              <a:gd name="adj2" fmla="val 59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i profesora d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temátic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s la señora Angela. Es mu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impáti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divertid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477120" y="3218040"/>
            <a:ext cx="1609560" cy="33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887 Charlie Brown.jpg"/>
          <p:cNvPicPr/>
          <p:nvPr/>
        </p:nvPicPr>
        <p:blipFill>
          <a:blip r:embed="rId2"/>
          <a:stretch/>
        </p:blipFill>
        <p:spPr>
          <a:xfrm>
            <a:off x="1911240" y="3218040"/>
            <a:ext cx="1663920" cy="30193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!Qué suer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good_luck_graphics_05"/>
          <p:cNvPicPr/>
          <p:nvPr/>
        </p:nvPicPr>
        <p:blipFill>
          <a:blip r:embed="rId3"/>
          <a:stretch/>
        </p:blipFill>
        <p:spPr>
          <a:xfrm>
            <a:off x="1447920" y="1143000"/>
            <a:ext cx="1530360" cy="1530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9"/>
          <p:cNvSpPr/>
          <p:nvPr/>
        </p:nvSpPr>
        <p:spPr>
          <a:xfrm>
            <a:off x="3352680" y="0"/>
            <a:ext cx="5334120" cy="2743200"/>
          </a:xfrm>
          <a:prstGeom prst="wedgeEllipseCallout">
            <a:avLst>
              <a:gd name="adj1" fmla="val 15953"/>
              <a:gd name="adj2" fmla="val 72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¿Por qué Chavo?  ¿Quién es tu profesor d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temáticas y como 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8"/>
          <p:cNvSpPr/>
          <p:nvPr/>
        </p:nvSpPr>
        <p:spPr>
          <a:xfrm>
            <a:off x="0" y="0"/>
            <a:ext cx="4952880" cy="350532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i profesor de matemáticas es el señor Diablo. Es mu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ver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ántipatic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895480" y="3728880"/>
            <a:ext cx="3124440" cy="1171800"/>
          </a:xfrm>
          <a:prstGeom prst="wedgeEllipseCallout">
            <a:avLst>
              <a:gd name="adj1" fmla="val 53351"/>
              <a:gd name="adj2" fmla="val 107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¡Caramb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83868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peanuts-lucy-psychiatrist.png"/>
          <p:cNvPicPr/>
          <p:nvPr/>
        </p:nvPicPr>
        <p:blipFill>
          <a:blip r:embed="rId2"/>
          <a:stretch/>
        </p:blipFill>
        <p:spPr>
          <a:xfrm>
            <a:off x="6400800" y="4314960"/>
            <a:ext cx="1994040" cy="20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math-teacher"/>
          <p:cNvPicPr/>
          <p:nvPr/>
        </p:nvPicPr>
        <p:blipFill>
          <a:blip r:embed="rId3"/>
          <a:stretch/>
        </p:blipFill>
        <p:spPr>
          <a:xfrm>
            <a:off x="4257720" y="0"/>
            <a:ext cx="45054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cción 3 ¿Cómo es?-What’s he/she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es el profesor de matemáticas de Chav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es la profesora de matemáticas de Lu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es tu profesor de matemát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es tu profes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8:11:08Z</dcterms:created>
  <dc:creator>wanda.snowfrost</dc:creator>
  <dc:description/>
  <dc:language>en-US</dc:language>
  <cp:lastModifiedBy>wanda.snowfrost</cp:lastModifiedBy>
  <dcterms:modified xsi:type="dcterms:W3CDTF">2011-12-15T08:24:55Z</dcterms:modified>
  <cp:revision>14</cp:revision>
  <dc:subject/>
  <dc:title>Slide 1</dc:title>
</cp:coreProperties>
</file>